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46DB-1AE4-49DB-AA87-BF9C42375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ask each other and / or look up some words/phrases they don’t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8420-2C03-45A5-B34D-C18029078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cut up the words/phrases and definitions for learners to match physically, or do it on the board  Ley: 1/c  2/a  3/e  4/b  5/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375B-E717-4A71-B86D-015C004FD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 can discuss brief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15F8-34E0-488F-A13F-25FF7ECCC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predict what these two think about th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5C73-D35B-4978-B65A-736058AD4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de the class into two groups, A and B. Hand out a print out of the text, or get learners to research online. They can prepare their 5 good points in pairs or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88AE-AB27-44BF-BEFB-0848D9EC6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ve learners into pairs A &amp; B. You could monitor for errors and elicit corrections post-ta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0F28-2E6B-43F3-A673-8C724AF36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work in groups or pairs. They could then display their work for others to comment on / corr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958D-8E2D-4C92-BFF8-7C6BC6A49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earners do not have access to the internet, you could print off a copy of some of the other arguments for them to read inst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2E8A-08F7-41E0-9DA0-A02252111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2.5 – 3 hrs: speaking (15 mins), focus on language + language practice (30 mins), dictation (10 – 15 mins), vocabulary (10 – 15 mins), reading / preparation (15 – 20 mins), speaking + error correction (arguments) (20 - 30 mins), writing (20 – 30 mi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earch + more speaking / feedback (30 – 45 mi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F82C-E71D-4BCD-8C61-7FC443321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hand out different topics to each pair, or get them to choose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E2E1-40B8-4714-812B-DBE8973E2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get learners to all come to the board and write some of their sentences. Other learners then read and correct any err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663B-F9CD-4EEB-998A-223755F2B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lp learners correct the errors. You can then elicit and add utterance stress and dr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concept check the difference between “should” and “ought to” (strength?) and the difference between “have to” and “must” (external/internal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A764-DCFA-4A1F-AC83-FCC347F57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E00C-6F88-4FD4-8966-8C00A4B63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icit language learners know under the hea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037F-C153-4076-83A8-15831CCBF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d to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CE3F-BD69-47FC-8243-6EE81637E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n’t show learners this slide to correct from until after you have dictated the 5 sentences and learners have checked in pairs. An alternative to a traditional dictation is to do a dictog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EC88-8EED-4426-BEC6-1C2F8C4AD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E97-FC0B-4D14-890A-61B29C6A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327-35FC-492E-9C79-9FDD725F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9EC-049E-46B8-A21B-50646A7F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9F5-276E-4DCF-8B09-74ED3E40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D0F9-3F61-4990-B495-2DAADE51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0A09-7097-4FA6-8EBB-DA8B8674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9CFB-3EA3-40E0-A3E4-2107C8B7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A61-D3FC-4BE8-9405-18B5741F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C4B-301E-4AD3-AFAB-99D34152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6F0-7792-471C-87AE-EAB399AF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4D29-C0A1-4779-A93B-6E1A2E66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273-2F9B-4489-B333-AAD6C81A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D863-5B60-4A46-86C2-0060AC72E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Argument:_If_you_worry_about_climate_change,_is_it_a_good_idea_to_have_children%3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Arguments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204640"/>
            <a:ext cx="84978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Calibri"/>
              </a:rPr>
              <a:t>Argue better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4720" y="530028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New Internationalist Easier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Ready 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771640" y="549360"/>
            <a:ext cx="63709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What do these words/phrases mea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fossil fuels  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energy consump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carbon emiss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ustainable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clean energ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tch phrase and defini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8920" y="1412640"/>
            <a:ext cx="331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1) </a:t>
            </a: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clean ener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2) fossil fu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3) carbon emis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4) energy consum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5) sustain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492000" y="1341000"/>
            <a:ext cx="5472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l, oil and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uch energy we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from natural sources (eg. sun, wind, waves) that produces less C0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we protect the planet by not using too many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mount of CO2 pro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70c0"/>
                </a:solidFill>
                <a:latin typeface="Calibri"/>
              </a:rPr>
              <a:t>If we worry about climate change, should w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70c0"/>
                </a:solidFill>
                <a:latin typeface="Calibri"/>
              </a:rPr>
              <a:t>have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70c0"/>
                </a:solidFill>
                <a:latin typeface="Calibri"/>
              </a:rPr>
              <a:t>childre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100400" y="3343320"/>
            <a:ext cx="48024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Yes, or n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836640"/>
            <a:ext cx="40384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Anne Hendrixson is the Director of PopDev. PopDev is a centre for critical thinking, learning and working for peace, population and the environment at Hampshire College,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Erica Gies is an independent journalist . She writes about what we need for life: water and energy. She writes for The New York Times, The Guardian, Scientific American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268360" y="3933720"/>
            <a:ext cx="1845000" cy="256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7093080" y="3933720"/>
            <a:ext cx="15094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:  Agree                   B: Disagr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Read this to find </a:t>
            </a:r>
            <a:r>
              <a:rPr b="1" lang="en-GB" sz="60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 good points to support your argument, and compare with your partner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Argument:_If_you_worry_about_climate_change,_is_it_a_good_idea_to_have_children%3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w pairs :  A &amp; B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alibri"/>
              </a:rPr>
              <a:t>Argue!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+ remember a) should/ought to + infin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) language to agree/disag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arguments.jpg"/>
          <p:cNvPicPr/>
          <p:nvPr/>
        </p:nvPicPr>
        <p:blipFill>
          <a:blip r:embed="rId1"/>
          <a:stretch/>
        </p:blipFill>
        <p:spPr>
          <a:xfrm>
            <a:off x="5580000" y="1413000"/>
            <a:ext cx="3430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rite a response to these comments on an online discussion forum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ll says: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Lately I haven’t been able to sleep because I’m so worried about climate change. Surely these problems would all be solved if people stopped being so selfish having more and more childr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thy says: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What a horrible thing to say! It’s not children who are causing climate change, it’s big business. What we need to do is stop them and make them more sustain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remember to use modal verbs and language to agree or disagre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nd another argu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Arg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it and make notes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ES points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a few more argument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new internationalist.jpg"/>
          <p:cNvPicPr/>
          <p:nvPr/>
        </p:nvPicPr>
        <p:blipFill>
          <a:blip r:embed="rId2"/>
          <a:stretch/>
        </p:blipFill>
        <p:spPr>
          <a:xfrm>
            <a:off x="6659640" y="18900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Choose one of the topics from today’s lesson (children, climate change, food, toys, or any of the arguments you read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Decide on a letter you want to write – who to? wh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/ Write the letter. Make sure it explains very clearly what you want to sa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4/ Check your letter very carefully for erro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5/ Send i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Lesson men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484280"/>
            <a:ext cx="8713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rter: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rgu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in courses: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gramma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modal ver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rgue bett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anguag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agree and disagre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ocabular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for the re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ad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prepare for argu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rgue even bett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ssert: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rit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comment to discussion for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main course.jpg"/>
          <p:cNvPicPr/>
          <p:nvPr/>
        </p:nvPicPr>
        <p:blipFill>
          <a:blip r:embed="rId1"/>
          <a:stretch/>
        </p:blipFill>
        <p:spPr>
          <a:xfrm>
            <a:off x="324000" y="2852640"/>
            <a:ext cx="2087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oose a topic and argu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1196640"/>
            <a:ext cx="4321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b0f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Countries - which is b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ood – meat or vegetabl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f622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f6228"/>
                </a:solidFill>
                <a:latin typeface="Calibri"/>
              </a:rPr>
              <a:t>Toys – same for girls and boy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46c0a"/>
                </a:solidFill>
                <a:latin typeface="Calibri"/>
              </a:rPr>
              <a:t>Cars - which is b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ducation – private or fre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413000"/>
            <a:ext cx="4716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Politics –Labour or Conservati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8480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84807"/>
                </a:solidFill>
                <a:latin typeface="Calibri"/>
              </a:rPr>
              <a:t>TV programmes – which are b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0504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0504d"/>
                </a:solidFill>
                <a:latin typeface="Calibri"/>
              </a:rPr>
              <a:t>Animals – cat or do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375e"/>
                </a:solidFill>
                <a:latin typeface="Calibri"/>
              </a:rPr>
              <a:t>Languages - which is easi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arguments.jpg"/>
          <p:cNvPicPr/>
          <p:nvPr/>
        </p:nvPicPr>
        <p:blipFill>
          <a:blip r:embed="rId1"/>
          <a:stretch/>
        </p:blipFill>
        <p:spPr>
          <a:xfrm>
            <a:off x="7093080" y="5267160"/>
            <a:ext cx="180000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omplete these sentences in pairs with some of the things you said in your argument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700280"/>
            <a:ext cx="8218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think we                  should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houldn’t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) We really                   ought to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) In my opinion, we    have to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) Everyone                    must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stn’t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alibri"/>
              </a:rPr>
              <a:t>Language 1: modal verb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ok at the pattern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dal verb + infi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468360" y="2349000"/>
            <a:ext cx="5688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Is the grammar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I think we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should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We really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oug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 In my opinion, we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have 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4/ We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 must 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5/ We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shouldn’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76720" y="2349000"/>
            <a:ext cx="4391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correc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b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vegetaria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stop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driving so mu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learn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Chines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accept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all religio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driv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short journey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discuss these statements – do you agr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920" y="1915920"/>
            <a:ext cx="8642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70c0"/>
                </a:solidFill>
                <a:latin typeface="Calibri"/>
              </a:rPr>
              <a:t>1/ I think we should all be vegetaria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2/ We really ought to stop driving so mu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3/ In my opinion, we have to learn Chines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4/ We must accept all religio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5/ We shouldn’t drive on short journey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92d050"/>
                </a:solidFill>
                <a:uFillTx/>
                <a:latin typeface="Calibri"/>
              </a:rPr>
              <a:t>Language 2: agreeing and disagreeing</a:t>
            </a: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gree:            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35564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Disagre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Language for agreeing and disagree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gree:            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agree             </a:t>
            </a: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becaus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agree with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completely ag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think so to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Disagree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on’t agree   </a:t>
            </a: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becaus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isag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on’t agree with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totally disag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on’t think so, act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Calibri"/>
              </a:rPr>
              <a:t>Dictation – agree or disagr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196640"/>
            <a:ext cx="8712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re are too many people in the worl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limate change is a big problem at the mom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f people don’t have so many children, climate change won’t be such a big proble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eople shouldn’t have childr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eople have the right to have as many children as they wa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5:23:44Z</dcterms:created>
  <dc:creator>IT Technical Support</dc:creator>
  <dc:description/>
  <dc:language>en-US</dc:language>
  <cp:lastModifiedBy>Linda Ruas</cp:lastModifiedBy>
  <cp:lastPrinted>2015-03-11T09:31:56Z</cp:lastPrinted>
  <dcterms:modified xsi:type="dcterms:W3CDTF">2015-03-11T19:26:37Z</dcterms:modified>
  <cp:revision>62</cp:revision>
  <dc:subject/>
  <dc:title>Arguments</dc:title>
</cp:coreProperties>
</file>